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753-6D0A-4EC7-AC3E-12E20D63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7186-CD98-450A-8C35-F7779B58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EEBF0-4105-48E1-9A29-63475974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388DD-4131-412D-B2B4-94B30897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BE25E-7EC6-4DE0-9ACB-A2539ED2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63FBF-DF4C-46D0-A112-28C3D44D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150AF-05BD-4CCD-B561-39A04982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FA52C-799F-4D1A-A79E-55A3F04C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21EE0-9BC4-4E6C-A68B-413156A5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1DCF5-8E10-4120-B625-0D838EBF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7E4FA-1E8F-4AF8-9215-38564EE9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543CE-3B6B-4EE7-BD67-64A3EDAF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6FF-36E3-45F3-ABB5-836594A9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9F0C8-12D8-4ABD-BA78-95C7A599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AFB9D-404B-4C38-9812-EA4F7356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E5582-6010-4534-91AB-6D26E47D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1DEF5-7997-4DA4-8D86-6B0560F1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C5A44-A84C-4B07-B067-DF159A62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E51F1-BA17-425D-8A04-CB24E1A7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570A9-A925-4D6C-BA94-815E3001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F9ECC-B284-4607-B099-C6FDFD58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DF320-1488-4C14-B0C9-C80D992F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96128-6F48-4363-92B0-DAE098B2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BE2-9BA7-4CB1-9294-8990AF80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7F6CD-9DC4-4D03-8141-7C90F6B2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1DCDF-9D2D-41EB-AA8C-CD595E82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38EE2-2813-44DA-A97B-958719DB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07263-2C0D-4903-972C-AAB41328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6CF04-D718-417E-92D6-B9ABF238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8F16E-4CF1-4FA0-8B30-D1CE2EE3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F539C-2A0F-4860-A9C4-582C7227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67EFA-FE40-4233-B9C0-B33953A3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C0E07-55A6-40B5-8BC3-40AF091E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9B09A-DA03-4BCD-A9DB-A3F0AF6E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31EA-D346-4452-BFA9-6230FB89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09802-CF98-4AFD-828A-15C6C93E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10C71-AD9A-4AF1-A092-0E129118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DD0E8-D246-4D00-A0F3-3798A123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BB659-21F6-4D35-8130-1230ECF4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8B71B-C65A-4822-9EEE-FADDC145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EFBBE-C47D-4165-89A9-F483D8E5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61A8A-5C07-42E1-9948-781EC474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11030-D3B7-4B65-8D69-43405922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6F2D9-D473-474F-9F45-11F232A2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BAEB8-3227-4ABE-AD8D-1CD49B0F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BB18-8832-41B7-9A16-E3D24611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7BF65-5791-476D-87D2-4973C5F3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6B223-94DB-44BF-95CC-55796F24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A28EB-0398-4F29-B2EB-82B69FC6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D25C1-2A14-4A82-82F0-912034F6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A9724-1E56-43B2-BA87-89AE3600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B2AD1-B8FF-4DB0-B5B1-5133C050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93416-52EC-4769-A12B-A364958B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E50A3-82C3-4560-A772-B6511CDE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0F50D-0494-4BC4-A386-34633A52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7747A-3209-4AC3-8742-2DD9DA35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6062-1E64-42B9-B28E-6BF2252C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020968-5785-46A1-866B-DB75E510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E10D0-858A-420E-B8B0-7F17C743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3378A-A1AB-4DC4-9B59-4DC6F96D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73127-A5CE-4D26-A0AE-C7926473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2E90E-63FD-4747-8B4B-A15AD90B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98C7E-4371-43AF-B535-847131A9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14415-D606-4D49-AB03-D4B931B5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63036B-24B1-40E9-859B-D03ABA5D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F78C4-541B-46DD-8C37-6D745914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54114E-F66B-4A30-A367-5A9A26C3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E515-8CCC-4BAB-9C5A-9C5FEDFB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B09DE-F270-4689-8A12-3A59D953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59EB89-2855-441A-92D1-06AC49EE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AAAFB2-F4F7-4363-B28D-B024843C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B5A46-CBD4-4C8D-9C82-104EA433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BA3E9-A608-4279-BEDE-7FE22502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99DC5-D66D-4426-9C42-231772DA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AC714-4795-4A16-A3B8-F1FC1E79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1B40B-8242-4B8D-8453-F8670C81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CEF19D-1AFA-40E6-8F49-3BEB9FB1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857077-EE41-4CB4-8911-8985B234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D5F1-C4F3-47E0-9685-44A74ECA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FB0F3-F8C7-4074-9049-4F395A85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D5B4EA-A2D3-477E-A0BA-8BA51181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81E5B3-B6C1-4845-B551-3EECFD15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6EEE0F-20BE-425D-8D77-E502D6A9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605E0-A39F-42A7-A4CF-8C3D79B7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54E9E-CE86-40A3-B286-6DADDAD7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8AE91A-39DE-48B8-9F3D-B3D9BE0E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D4BBD4-2FEB-467A-97C9-3DB5AD21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8F0335-869C-4974-B9A6-B0168C8D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03028-B313-4414-8750-A93B1675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0BB1-A8AC-457C-82CF-7CFB1420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27E8F-B8C7-44C9-A1D4-5A368FB0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F2FB97-A589-4BDF-9FE4-0918F624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FB75F7-E475-4C41-9D88-AF050743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70A638-F836-4A3D-85DE-23A837C0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86E9BF-2BAC-4B79-9DEC-443BD3F4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5F441-9A71-4D4F-B9C9-E7ACBC84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DCC0E6-BB84-4F81-85D8-5AD08A8A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79633-40E9-4B15-ABEF-6911BF03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490C7-8610-4E27-8078-A7A1D8EE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7701DE-A931-454E-B68A-A9A570FA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AE84-59DA-48E2-8FEF-79BFB860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38E48-9285-4139-8F01-115AE207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F6F17-DD19-4CA2-86D5-91F44733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EDAA0D-6B72-4286-8FAF-79801E64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4AA3BF-2B8F-4116-9A93-1AA418C9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8A67E4-B324-4F17-8914-AA967426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DE515D-DEC9-4D64-9D1F-818737E8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531268-0289-4AE0-9A91-90A44740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2C7789-B098-4041-8165-229E93AC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9CC310-7547-46C1-B902-1327DFA7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BF42CB-EFEE-4D5E-91DE-72F66083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BC6-012F-4E12-BD87-23614BF8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AA0B-0136-4CC1-B805-FEC9A35D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778E91-0634-474D-B543-745D9655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E9D0D5-A041-43CE-91FC-CE5A22C6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4D11BB-919D-4117-A937-E9349397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172977-5F5F-40F3-B781-4D22CDEC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CAA86-40E0-4ED7-B617-97B158C5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860D5B-E692-4149-BB90-820E9F7E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75FCBF-8737-465A-8929-D5679CE9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444A86-402F-4C64-943D-C63FDA70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C216E1-C609-424A-A879-C5376227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6AEB9C-01AC-4B26-B500-93C09EF5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2C9A-0856-493E-B86E-DCD39BB6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A3044D-88DC-46D6-9E6D-C9855B1A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E61452-9221-4085-8E18-28F5BF0E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76DD93-5AB0-4B2A-8EBC-3B0877D1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9A49B4-0744-48FA-8C31-2D67F371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CD144B-82FB-4976-959D-10B71835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069267-920E-426A-B776-E28D4718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6D477D-EDAC-471D-BCC8-11157B84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F890C5-06AD-4820-82B7-3B913C33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571C81-884B-40B3-9AE3-CCCBFF72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A1C49E-52C6-4590-A4BB-8039E172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8ADA-47B7-4D0F-8482-FB507304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56490B-055E-4B5E-A724-A50DE68C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C2D11A-CFC0-4EAB-B189-BD8E4822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F61848-A525-4F56-AD00-C120A027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44CC09-8647-4144-AF00-FE465516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68A246-2ABD-430E-9BE7-45F66363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7791A5-5D01-4F5C-A562-E4FC4982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86258-4508-4A4E-9500-95363DC8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8809E-348F-426C-9253-C99FC377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703A50-08A1-4D61-9223-89A4B2DD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7B856D-D78E-4B0D-ADF1-5F8D56E9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0403-7581-49F9-9EE0-A194438D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325754-052A-4D0C-873C-EB309C0B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3E0C82-5B53-4DFD-BC46-1A108F80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3EB9B8-1C39-4DFC-947C-EFD604B2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ABA35B-F5F7-40E0-A8D0-0319F1C9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462800-FA1B-4313-81CC-9FA4FEE9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C9E8D7-5D2C-4E49-8E10-D69CB227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1AE130-7493-4B2E-85C4-ECC6B8A0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DDD088-7BBA-4DD8-B8D1-F4742603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9ED0C9-5902-40D7-9354-CFF45484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3F9DE0-38EE-4F5F-BE7B-D7299828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2723-A152-4334-8C0F-A2176794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B8608F-F4A6-47D4-91D5-0D959DE2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BE6224-D661-4B24-A46A-AF916DAF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DD9AC2-9F9C-4C18-91C1-95DBA5AB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ED14A3-9346-479C-8B4F-D20CECD8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F5A82F-0998-4568-9B06-295C5E05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9524AE-64B0-4D52-9637-EDBA5490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DB4FB2-3959-429C-86F0-00BAB50A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ED41CB-F371-467E-91CF-22D0C150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C6F900-2B7F-4BAD-BB11-9C0D3521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6FDFB9-8DC9-4120-BD6F-B54C1971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0B931-A179-4DBE-A48A-71ACBAD2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B6AC23-D327-48DF-8942-0DE9FB56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B1A9A4-0AF9-4CC8-AE33-8819C950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320B6F-9E4A-416B-A60D-6E90D653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8405-6C94-426F-B632-3193C5FA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89679-1BC4-4506-B3F7-28BF65A6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06B9-9309-45D1-8090-044AA2B2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D4EC-73B7-48DF-8B29-B6210BA6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FEF-D10E-4659-890C-452A31DA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5931-5981-40F5-8358-0BD72205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481D6-2CCE-4A5A-8D76-8C7D250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77E9C-2CC7-424B-A7CF-33CFAF90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B4687-315F-4640-B428-5F7F9239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181E6-5FF8-4A80-B637-12D94EA5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2CF8B-8A6C-44C1-A881-7A517DE6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9DF7F-1676-44E6-BADC-05F2DC71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09CDD-8C81-4BE7-9FEC-618CAF47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4C032-FA99-4A4A-9AED-63E8E6E3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617CE-C70D-4127-B7AE-66BDE3E0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FCF-4C2C-4E53-AE6A-6E312AC7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9CC23-7491-4E44-8587-1BD2D89C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583B0-5C30-47CC-B061-D6F70684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D06C2-2DC8-43DD-AA54-AEFE1872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5EEA4-B757-4D04-A30A-C5F4CDEA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6E768-13C7-4C42-81A7-5E88EC15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0A05A-E1A9-4CA7-9EBE-C5652DCF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85618-9104-404F-9FE5-D626EE4F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62344-A10B-4FEF-BA90-BF9D9962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66091-D516-48E6-803C-EBCD8A01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CB1B4-6BBD-434A-92AB-633A8EE3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4BA-10A7-4F6C-905F-5B68FBB6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031B0-BD90-410E-B2BD-0C5ED790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51D59-325A-4C9A-BA5F-A937B99E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CFF92-888E-4FEC-9FD0-368DA231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318CD-90DC-457F-9001-B8A33A04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E552B-F5D8-4A99-8724-718342D8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0001C-9537-4014-9A3D-22F53240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6DEBF-2B1F-459A-916D-AD94EE9C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8F4B3-1C84-43C5-9F53-A39BF783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E69D1-14B2-43E5-9EFA-0480A1B0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0A34F-889D-4B1C-A129-D650C549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5DA-9DB7-4F0F-8BF4-CD452F44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AD3ED-4F74-4C18-ABF3-D2F5EC2D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BE110-9E70-4F05-9751-BBFBF3FC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25AB8-CEB1-488F-A64F-FEFABEDB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8D266-F1BE-43A2-9B97-D1E049C1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69A44-C952-49BF-96C5-78D347EA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19DE8-8D0C-47DA-BCF2-FF27675E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11A63-60D7-4CF6-9EB9-B5A08A0B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E0FEA-1F3D-4B98-8ADA-54393B04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FAF2C-6D9E-4191-91F1-3DF65B2B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70433-2069-4B40-A76B-D911DA0B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FC1-419F-45F4-B891-56BCCDC8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A7F56-389C-4AEE-A03E-896C0B4F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D188B-752C-4D5F-99E8-229BFC2A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5D447-7CCB-4AD4-BED6-E714F381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B8F9D-0207-4E46-AFDB-52615469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52874-3A49-44A8-9A50-A38CA958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C48A7-BD18-45E2-B377-4FD417A8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55C74-9064-41C7-84C7-01FAA730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426CD-13AA-48C9-8690-398A163C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1CDE9-ACC3-4ADB-BB76-C3B89D1A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30269-1B68-43EC-B2D2-83B7B9D8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054-CDE9-425A-BD6C-827127AE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2EAA1-FAAD-4076-B10A-C37AAD57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23607-8572-4DF0-B313-3D9B6470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BD565-3C8C-4D2D-92CA-D9FD7000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FF401-7F15-4168-A511-1E83D19C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70C10-3CD3-44B9-90E9-4611CACB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52F1A-E4C4-407A-B36A-9F843099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5B92B-8E3E-4A23-910B-81F2CB0E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9C801-86F9-4A42-96E1-5AFFA104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B796B-9CB0-4D3A-B35B-61305298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2CD48-B523-453F-88E5-B91668BB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344-15BD-4E6B-AA54-8BE10984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638F7-75F6-4D96-972F-6C5005CC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57B15-6127-4676-8A2C-7025489D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90EC7-2D45-472C-A860-652239C7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61039-3728-4A17-BCEE-8F7844E3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57B01-BB07-4B37-B7F6-272106B8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BF0A0-7798-4442-B658-BE5493E8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F373A-3774-4B31-B880-4DD25ED1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84E32-E27F-4F8B-ABAA-9674E444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FF02C-7D5F-4FE0-A93A-914DAB45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03075-6D37-4665-A441-C1CE7BE6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C3DE-F4DE-4E8B-9591-9ED252471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9FD4-8319-47A3-B589-F16C3E7118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2C08-2EDB-414E-A8D1-E1FA01BD5D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C21A-74EB-472B-8380-0E9D823A15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779E-CCA6-4E13-8090-9C5F216697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EA70-ECDB-4FAE-99D4-F84C4C213D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E510-A802-4051-8633-3A963AD93F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A92B-888E-40B8-8641-E3A3E46ED7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FBC4-D854-4EF1-BCC8-BD6E7E54A7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4945-724D-4959-B458-D7BECDF01F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01F8-C942-4548-A822-894D0A896C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3659-F42B-417C-862A-36E3600768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B831-27A8-4B3D-8037-931F7ECD00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61D1-5EE2-4871-BE27-541B272583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E204-6A20-4167-8299-F1E97B82B3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31AC-D97D-4905-92F1-33A144062D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53EF-8015-4892-95BD-9198AD87FD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9E3B-3B27-413B-AAFB-0D41295830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34C8-855E-4280-9B31-10C6F6DD4F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4B57-66F4-40D4-B8B6-3BC612B5F4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A20F-8EDC-4EBC-BC3E-393F30FE69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C58D-498F-4F3D-9FF7-B4C20EC4BE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537B-70C7-4922-B79B-142A4ED70B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A33B-5A0D-4B2E-B35A-1C965A1EBA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EEE0-7079-4E2A-9D5F-A347B56C54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94F7-839A-4453-AE3B-961D51A77E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A138-2D90-438D-A435-B5F2FFCF1C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2E5A-26BB-425B-B3B6-DB202000E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428F-5089-4631-BBF1-C8E5FFCE37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20B9-BE98-479F-93AA-A67FA967F0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BC9C-F7FB-44F0-87AE-3D9CA45412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7E3B-997C-4F52-B791-BADE38FA15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D831-260C-408C-8C8C-BDC37F9071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CF72-B253-4E9D-8DB1-A5A7EAD667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B512-3BA1-43CE-AE0F-5F9E859325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B8FB-DAA7-4B26-A1FC-36025C33BC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0BE8-A57E-4362-90B5-70342914AB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C8E8-0CC6-49B4-9A5D-98B073C783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5237-7E85-447E-A9FF-178EB9A7E3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9E6F-DC0E-4799-96B3-EF032A9CE0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147760" y="2914560"/>
            <a:ext cx="48484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71360" y="981000"/>
            <a:ext cx="8801280" cy="193356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247680" y="3224160"/>
            <a:ext cx="8648640" cy="3200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644364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284328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8172360" y="2622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1600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4643280" y="2622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900000" y="3659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5508720" y="3659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971640" y="5084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5508720" y="5084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755640" y="1906560"/>
            <a:ext cx="6802560" cy="27129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1692360" y="24066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1692360" y="2867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1692360" y="33433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1692360" y="3803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1692360" y="426420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324000" y="2324160"/>
            <a:ext cx="8445240" cy="21240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042920" y="276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105732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1042920" y="4076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8:54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